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Chimes.wav" ContentType="audio/x-wav"/>
  <Override PartName="/ppt/media/image8.png" ContentType="image/png"/>
  <Override PartName="/ppt/media/Laser.wav" ContentType="audio/x-wav"/>
  <Override PartName="/ppt/media/image9.wmf" ContentType="image/x-wmf"/>
  <Override PartName="/ppt/media/image7.png" ContentType="image/png"/>
  <Override PartName="/ppt/media/image1.wmf" ContentType="image/x-wmf"/>
  <Override PartName="/ppt/media/CashReg.wav" ContentType="audio/x-wav"/>
  <Override PartName="/ppt/media/image2.wmf" ContentType="image/x-wmf"/>
  <Override PartName="/ppt/media/image3.wmf" ContentType="image/x-wmf"/>
  <Override PartName="/ppt/media/image4.png" ContentType="image/png"/>
  <Override PartName="/ppt/media/image12.wmf" ContentType="image/x-wmf"/>
  <Override PartName="/ppt/media/GunShot.wav" ContentType="audio/x-wav"/>
  <Override PartName="/ppt/media/image6.png" ContentType="image/png"/>
  <Override PartName="/ppt/media/image10.wmf" ContentType="image/x-wmf"/>
  <Override PartName="/ppt/media/image5.png" ContentType="image/png"/>
  <Override PartName="/ppt/media/Explode.wav" ContentType="audio/x-wav"/>
  <Override PartName="/ppt/media/image13.wmf" ContentType="image/x-wmf"/>
  <Override PartName="/ppt/media/image11.png" ContentType="image/png"/>
  <Override PartName="/ppt/media/Ricochet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AF2-30FC-43C0-98AA-E6D055C0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EA1-63B1-4D7F-B6C4-459D5728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C85-D95D-4B64-B51E-758DE983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E5E-D0AC-46E0-A2D2-FB26C928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0BE2-6FCD-41EE-9F37-F0B6465D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A81A-66E5-4671-B72B-FF01B9C3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1CCF-9D58-456B-A9F6-5E59A17C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A05A-4140-4E3E-8AC8-C91E93B7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3ABB-8596-48EF-BBC9-EF228128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68D0-FEA6-456A-BEC7-CEC0A9F6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478E-32BF-49E1-ACA9-EAE6A0B8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B9B-9FC9-4A5E-84D1-297EBD02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C995-7993-4D5F-8A99-24651D79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AB99-2B75-4747-8FE2-E558695D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B9F4-4721-4823-AA66-4F3368E4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C2F4-093B-4498-92B8-33EA0283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4231-ABB9-4E83-B870-7571142C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2DC51-83C4-4FE7-8791-FA4F9592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DCF74-DA94-4BDF-B714-769D2085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120B9-AC8A-4837-ADC6-59D5FB96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A5D26-9873-4431-AFD6-73099017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6483A-49AF-47AA-B8AB-5C56E5EC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BE8-DC13-40B2-A89A-CAB3B3E4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36244-53F4-40FD-88B9-231CD96B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525E4-C0C5-42F5-86CE-EC4527A0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6FEFB-37F8-4953-A6B3-4A1AB05A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AFAB3-8AFF-422F-9B9F-41EFB84C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FF46-B824-484C-BFAC-BC7CCD04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953AE-7064-444D-986A-6A306E78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2A8CF-50E0-4BEB-AC82-C59364C5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E6C44-4FD9-4333-B893-11E0A97A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FCC31-A7A0-47FC-9332-E242A63D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631BE-8EBB-4112-A5BD-F35A641E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492-7BA2-42BC-A4AF-C69E383D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E875-0250-4510-B217-CC7475F9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3BE05-66BE-4428-8C56-AA3D96B1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742F1-1F84-4FCD-B033-647D6018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13CC6-20F1-4615-907E-ABDB6F05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18142-7C83-4B38-8D60-D0293C66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F8FE2-405F-4EF9-82E1-E2B2DBF9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EEC38-8715-41C6-AA3B-5A1780C6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F0C7A-9716-44C5-9DA2-64C06F77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EF70B-86AA-4806-82D8-F741CD7C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D85-2F54-482D-8342-058C2747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9C7-2C43-4E1B-BE6E-09264A85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144-ECF7-4E43-8E76-7455332B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644-487C-4048-84D9-2224BE6C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D57-1C2E-491A-976A-862D45B5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E2DF-9475-4415-866E-F774822B83FC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7271-600B-43C4-AF9F-7EF7A08BDB47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654E-39D7-407A-BA1D-6184F00F3D9C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90F0-474D-4AE5-AE37-B68986D1F9E4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audio" Target="../media/Ricochet.wav"/><Relationship Id="rId7" Type="http://schemas.openxmlformats.org/officeDocument/2006/relationships/audio" Target="../media/GunShot.wav"/><Relationship Id="rId8" Type="http://schemas.openxmlformats.org/officeDocument/2006/relationships/audio" Target="../media/Explode.wav"/><Relationship Id="rId9" Type="http://schemas.openxmlformats.org/officeDocument/2006/relationships/audio" Target="../media/Laser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…</a:t>
            </a: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the main purpose of a business is stated in a…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0" spc="-1" strike="noStrike">
                <a:solidFill>
                  <a:srgbClr val="404040"/>
                </a:solidFill>
                <a:latin typeface="Trebuchet MS"/>
              </a:rPr>
              <a:t>Mission statement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Object 4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3505320" cy="3082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Aims…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In business the main aims are usual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Survival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Profit maximisation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Growth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Object 3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371484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Many businesses have some or all of the following aims…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making a profi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providing goods and services to the local communit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surviv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expanding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maximising sal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improving quality of produc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improving quality of ser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providing a highly competitive ser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providing a charitable ser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providing a voluntary ser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being environmentally friendl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British Airways Ai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155700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Being the airline of first choice in key markets”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Object 4" descr=""/>
          <p:cNvPicPr/>
          <p:nvPr/>
        </p:nvPicPr>
        <p:blipFill>
          <a:blip r:embed="rId1"/>
          <a:stretch/>
        </p:blipFill>
        <p:spPr>
          <a:xfrm>
            <a:off x="2050920" y="4076640"/>
            <a:ext cx="3638520" cy="2428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Objective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49" name="Object 3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191120" cy="3587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Objectives are measurable..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404040"/>
                </a:solidFill>
                <a:latin typeface="Trebuchet MS"/>
              </a:rPr>
              <a:t>a business needs to identify specific practical targets it needs to accomplish in order to achieve its aims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Object 4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438280" cy="1992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914400" y="48006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These are called 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Objectives are quantified...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So that success can be easily measured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Eg British Airways</a:t>
            </a: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could have an objective</a:t>
            </a: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 “</a:t>
            </a: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to increase sales of air tickets to business passengers by 5% a year in Europe”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blinds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5fcbef"/>
                </a:solidFill>
                <a:latin typeface="Trebuchet MS"/>
              </a:rPr>
              <a:t>Aims Vs Objectives</a:t>
            </a:r>
            <a:endParaRPr b="0" lang="en-US" sz="4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93280" y="2541600"/>
            <a:ext cx="3886200" cy="24717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Aims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are long te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more subjectiv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not easily measur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28880" y="2541600"/>
            <a:ext cx="3886200" cy="24717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rebuchet MS"/>
              </a:rPr>
              <a:t>Objectives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are short te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more objectiv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easily measur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600" spc="-1" strike="noStrike">
                <a:solidFill>
                  <a:srgbClr val="5fcbef"/>
                </a:solidFill>
                <a:latin typeface="Trebuchet MS"/>
              </a:rPr>
              <a:t>SMART</a:t>
            </a:r>
            <a:r>
              <a:rPr b="0" lang="en-GB" sz="54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en-GB" sz="6600" spc="-1" strike="noStrike">
                <a:solidFill>
                  <a:srgbClr val="5fcbef"/>
                </a:solidFill>
                <a:latin typeface="Trebuchet MS"/>
              </a:rPr>
              <a:t>OBJECTIVES</a:t>
            </a:r>
            <a:endParaRPr b="0" lang="en-US" sz="6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94920" y="2133720"/>
            <a:ext cx="6629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7f7f7f"/>
                </a:solidFill>
                <a:latin typeface="Trebuchet MS"/>
              </a:rPr>
              <a:t>          </a:t>
            </a:r>
            <a:r>
              <a:rPr b="0" lang="en-GB" sz="3300" spc="-1" strike="noStrike">
                <a:solidFill>
                  <a:srgbClr val="7f7f7f"/>
                </a:solidFill>
                <a:latin typeface="Trebuchet MS"/>
              </a:rPr>
              <a:t>Specific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            </a:t>
            </a: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Measurable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  </a:t>
            </a: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Agree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      </a:t>
            </a: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Realistic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                       </a:t>
            </a:r>
            <a:r>
              <a:rPr b="0" lang="en-GB" sz="3300" spc="-1" strike="noStrike">
                <a:solidFill>
                  <a:srgbClr val="898989"/>
                </a:solidFill>
                <a:latin typeface="Trebuchet MS"/>
              </a:rPr>
              <a:t>Time constrained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5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263" name="Object 6" descr=""/>
          <p:cNvPicPr/>
          <p:nvPr/>
        </p:nvPicPr>
        <p:blipFill>
          <a:blip r:embed="rId3"/>
          <a:stretch/>
        </p:blipFill>
        <p:spPr>
          <a:xfrm>
            <a:off x="2971800" y="4191120"/>
            <a:ext cx="685800" cy="58716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7" descr=""/>
          <p:cNvPicPr/>
          <p:nvPr/>
        </p:nvPicPr>
        <p:blipFill>
          <a:blip r:embed="rId4"/>
          <a:stretch/>
        </p:blipFill>
        <p:spPr>
          <a:xfrm>
            <a:off x="2971800" y="480060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265" name="Object 8" descr=""/>
          <p:cNvPicPr/>
          <p:nvPr/>
        </p:nvPicPr>
        <p:blipFill>
          <a:blip r:embed="rId5"/>
          <a:stretch/>
        </p:blipFill>
        <p:spPr>
          <a:xfrm>
            <a:off x="2971800" y="5486400"/>
            <a:ext cx="685800" cy="587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Mini Challeng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33200" y="1700280"/>
            <a:ext cx="6140520" cy="201600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rebuchet MS"/>
              </a:rPr>
              <a:t>Write aims and objectives for your mini challen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rebuchet MS"/>
              </a:rPr>
              <a:t>Write a mission statement for your compan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826920" y="4365720"/>
            <a:ext cx="6553440" cy="119124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MEMBER – YOURS OBJECTIVES MUST BE S.M.A.R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Mission statement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55280" y="13284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GB" sz="4000" spc="-1" strike="noStrike">
                <a:solidFill>
                  <a:srgbClr val="404040"/>
                </a:solidFill>
                <a:latin typeface="Trebuchet MS"/>
              </a:rPr>
              <a:t>by reading a mission statement you can usually tell what a business actually does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Object 4" descr=""/>
          <p:cNvPicPr/>
          <p:nvPr/>
        </p:nvPicPr>
        <p:blipFill>
          <a:blip r:embed="rId1"/>
          <a:stretch/>
        </p:blipFill>
        <p:spPr>
          <a:xfrm>
            <a:off x="3635280" y="4149720"/>
            <a:ext cx="175896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Microsoft’s Mission statemen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70028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Bill Gates has said that Microsoft’s mission is…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0" lang="en-GB" sz="3700" spc="-1" strike="noStrike">
                <a:solidFill>
                  <a:srgbClr val="404040"/>
                </a:solidFill>
                <a:latin typeface="Trebuchet MS"/>
              </a:rPr>
              <a:t>taking the internet, combining it with great software and turning that into the most powerful tool of all time”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Object 4" descr=""/>
          <p:cNvPicPr/>
          <p:nvPr/>
        </p:nvPicPr>
        <p:blipFill>
          <a:blip r:embed="rId1"/>
          <a:stretch/>
        </p:blipFill>
        <p:spPr>
          <a:xfrm>
            <a:off x="7772400" y="5029200"/>
            <a:ext cx="982800" cy="1447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4440" y="260280"/>
            <a:ext cx="37368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Mission statement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404040"/>
                </a:solidFill>
                <a:latin typeface="Trebuchet MS"/>
              </a:rPr>
              <a:t>You should be able to tell that Microsoft is involved with the internet, computers and software development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Object 5" descr=""/>
          <p:cNvPicPr/>
          <p:nvPr/>
        </p:nvPicPr>
        <p:blipFill>
          <a:blip r:embed="rId1"/>
          <a:stretch/>
        </p:blipFill>
        <p:spPr>
          <a:xfrm>
            <a:off x="5724360" y="4292640"/>
            <a:ext cx="3429000" cy="2247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British Airway’s Mission statemen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GB" sz="4400" spc="-1" strike="noStrike">
                <a:solidFill>
                  <a:srgbClr val="404040"/>
                </a:solidFill>
                <a:latin typeface="Trebuchet MS"/>
              </a:rPr>
              <a:t>is “To be the undisputed leader in world travel”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rcRect l="0" t="13097" r="0" b="26867"/>
          <a:stretch/>
        </p:blipFill>
        <p:spPr>
          <a:xfrm>
            <a:off x="1547640" y="4437000"/>
            <a:ext cx="5002560" cy="2065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British Airway’s Mission statemen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404040"/>
                </a:solidFill>
                <a:latin typeface="Trebuchet MS"/>
              </a:rPr>
              <a:t>...from this you should know that British Airways operates in the travel market.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Object 6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5fcbef"/>
                </a:solidFill>
                <a:latin typeface="Trebuchet MS"/>
              </a:rPr>
              <a:t>British Airway’s Mission statemen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42920" y="1981080"/>
            <a:ext cx="3810240" cy="411480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but it 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GB" sz="1800" spc="-1" strike="noStrike">
                <a:solidFill>
                  <a:srgbClr val="404040"/>
                </a:solidFill>
                <a:latin typeface="Trebuchet MS"/>
              </a:rPr>
              <a:t>not very cle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about which type of travel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rebuchet MS"/>
              </a:rPr>
              <a:t>(except for the fact there is the word ‘Airways’ in the Company name!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Object 6" descr=""/>
          <p:cNvPicPr/>
          <p:nvPr/>
        </p:nvPicPr>
        <p:blipFill>
          <a:blip r:embed="rId1"/>
          <a:stretch/>
        </p:blipFill>
        <p:spPr>
          <a:xfrm>
            <a:off x="6226200" y="49320"/>
            <a:ext cx="2895480" cy="193176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7" descr=""/>
          <p:cNvPicPr/>
          <p:nvPr/>
        </p:nvPicPr>
        <p:blipFill>
          <a:blip r:embed="rId2"/>
          <a:stretch/>
        </p:blipFill>
        <p:spPr>
          <a:xfrm>
            <a:off x="7164360" y="2070000"/>
            <a:ext cx="1182600" cy="2710080"/>
          </a:xfrm>
          <a:prstGeom prst="rect">
            <a:avLst/>
          </a:prstGeom>
          <a:ln w="0">
            <a:noFill/>
          </a:ln>
        </p:spPr>
      </p:pic>
      <p:pic>
        <p:nvPicPr>
          <p:cNvPr id="234" name="Object 8" descr=""/>
          <p:cNvPicPr/>
          <p:nvPr/>
        </p:nvPicPr>
        <p:blipFill>
          <a:blip r:embed="rId3"/>
          <a:stretch/>
        </p:blipFill>
        <p:spPr>
          <a:xfrm>
            <a:off x="6226200" y="4869000"/>
            <a:ext cx="2895480" cy="190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5564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100" spc="-1" strike="noStrike">
                <a:solidFill>
                  <a:srgbClr val="7f7f7f"/>
                </a:solidFill>
                <a:latin typeface="Trebuchet MS"/>
              </a:rPr>
              <a:t>…</a:t>
            </a:r>
            <a:r>
              <a:rPr b="0" lang="en-GB" sz="4100" spc="-1" strike="noStrike">
                <a:solidFill>
                  <a:srgbClr val="7f7f7f"/>
                </a:solidFill>
                <a:latin typeface="Trebuchet MS"/>
              </a:rPr>
              <a:t>it is one thing to state a mission or a purpose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100" spc="-1" strike="noStrike" u="sng">
                <a:solidFill>
                  <a:srgbClr val="7f7f7f"/>
                </a:solidFill>
                <a:uFillTx/>
                <a:latin typeface="Trebuchet MS"/>
              </a:rPr>
              <a:t>but</a:t>
            </a:r>
            <a:r>
              <a:rPr b="0" lang="en-GB" sz="4100" spc="-1" strike="noStrike">
                <a:solidFill>
                  <a:srgbClr val="7f7f7f"/>
                </a:solidFill>
                <a:latin typeface="Trebuchet MS"/>
              </a:rPr>
              <a:t> another to achieve it.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Object 4" descr=""/>
          <p:cNvPicPr/>
          <p:nvPr/>
        </p:nvPicPr>
        <p:blipFill>
          <a:blip r:embed="rId1"/>
          <a:stretch/>
        </p:blipFill>
        <p:spPr>
          <a:xfrm>
            <a:off x="2843280" y="3933720"/>
            <a:ext cx="2514600" cy="2600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1341000"/>
            <a:ext cx="734040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5fcbef"/>
                </a:solidFill>
                <a:latin typeface="Trebuchet MS"/>
              </a:rPr>
              <a:t>To achieve its purpose, a business must have….</a:t>
            </a:r>
            <a:endParaRPr b="0" lang="en-US" sz="4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10920" y="3284280"/>
            <a:ext cx="6476760" cy="2971800"/>
          </a:xfrm>
          <a:prstGeom prst="rect">
            <a:avLst/>
          </a:prstGeom>
          <a:noFill/>
          <a:ln w="9360">
            <a:solidFill>
              <a:srgbClr val="5fcbef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7f7f7f"/>
                </a:solidFill>
                <a:latin typeface="Trebuchet MS"/>
              </a:rPr>
              <a:t>Aims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Trebuchet MS"/>
              </a:rPr>
              <a:t>the goals the business wants to achiev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700" spc="-1" strike="noStrike">
                <a:solidFill>
                  <a:srgbClr val="7f7f7f"/>
                </a:solidFill>
                <a:latin typeface="Trebuchet MS"/>
              </a:rPr>
              <a:t>Objectives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Trebuchet MS"/>
              </a:rPr>
              <a:t>practical steps to achieve the goa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Trebuchet MS"/>
              </a:rPr>
              <a:t>- usually quantified (measurable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ver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0:31:35Z</dcterms:created>
  <dc:creator>Research Machines plc</dc:creator>
  <dc:description/>
  <dc:language>en-US</dc:language>
  <cp:lastModifiedBy> </cp:lastModifiedBy>
  <dcterms:modified xsi:type="dcterms:W3CDTF">2015-08-27T12:26:21Z</dcterms:modified>
  <cp:revision>9</cp:revision>
  <dc:subject/>
  <dc:title>The Aims and Objectives of Businesses</dc:title>
</cp:coreProperties>
</file>